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image3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35.jpeg" ContentType="image/jpeg"/>
  <Override PartName="/ppt/media/image1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351-5E29-4081-ABD0-CABB0341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B99-5B7C-469B-8409-801A5F8C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162-D9FD-47EE-B052-71DB5F09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F77-7521-4986-8440-E87240BD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D46-936A-49C5-B773-C5DFB8DE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083-EC5B-4BA8-B54B-CD83673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606-AA7E-4524-9433-C6CF635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F12-BD1A-4918-A4F1-69163296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C62-82F9-483E-9363-16FCC39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277-95DE-43F6-B848-8AF6A34B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CC6-B67A-46B2-B35D-C6645D5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FDA-3A59-4358-A57F-9ADE0E2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169-C763-473E-BC61-7CC1F4965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ture 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143080" y="4797360"/>
            <a:ext cx="49291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utumn nigh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in Sibiu - Romania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6"/>
          <a:stretch/>
        </p:blipFill>
        <p:spPr>
          <a:xfrm>
            <a:off x="7596360" y="551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Picture 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icture 2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cture 2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icture 2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icture 2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Picture 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Picture 2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icture 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ture 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Picture 2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cture 1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icture 2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icture 2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Picture 2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icture 2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 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icture 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icture 2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icture 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Picture 2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icture 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icture 174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icture 2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icture 2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cture 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Picture 2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Picture 2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icture 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icture 3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icture 3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icture 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cture 3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icture 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ture 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icture 3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Picture 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icture 3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ure 3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Picture 3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ture 3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Picture 3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Picture 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ture 3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icture 1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icture 3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Picture 3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icture 3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icture 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Picture 3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Picture 3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icture 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Picture 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5"/>
          <p:cNvSpPr txBox="1"/>
          <p:nvPr/>
        </p:nvSpPr>
        <p:spPr>
          <a:xfrm>
            <a:off x="1187280" y="148428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onal Photo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rela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ctober 25th 2009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20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 1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Picture 190"/>
          <p:cNvPicPr/>
          <p:nvPr/>
        </p:nvPicPr>
        <p:blipFill>
          <a:blip r:embed="rId1"/>
          <a:stretch/>
        </p:blipFill>
        <p:spPr>
          <a:xfrm>
            <a:off x="0" y="0"/>
            <a:ext cx="925200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icture 1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ure 2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4T20:29:45Z</dcterms:created>
  <dc:creator>Mirela</dc:creator>
  <dc:description/>
  <dc:language>en-US</dc:language>
  <cp:lastModifiedBy>User</cp:lastModifiedBy>
  <dcterms:modified xsi:type="dcterms:W3CDTF">2009-12-11T06:18:19Z</dcterms:modified>
  <cp:revision>41</cp:revision>
  <dc:subject>Sibiu</dc:subject>
  <dc:title>Noapte de toamna in Sibiu</dc:title>
</cp:coreProperties>
</file>